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A73-38A7-4F81-AE1E-A63A6A3B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39C9-180B-4A43-AD2A-C94B688C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264-F54D-4222-9C75-3C351FDF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280F-BDED-4362-A6A8-DF89280B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5384-2E84-4B3C-8577-73E5FF58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5A8-7FE2-4CE2-A698-35B2F22D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AA8E-464E-45AE-9B65-B4E27F51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65B-7E9F-4831-ABD0-163FA06F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323-55FF-4B70-AEDD-2ACF2A91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E46-383D-4F4C-97F7-DCE56124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E58E-6931-4EC4-AB5C-189C3BE9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45F2-3DC0-4AEA-8895-98BC4208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54D8-923F-439B-A4E3-74ECBB945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Jaz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9880" y="25909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zz is many different sights and sounds.  Jazz is a combination of Latin and African rhythms, along with European melodies.  Jazz is the only form of music that is totally American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zz of the 50s /Outstanding Perfor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809880" y="25909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bop-not for danci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zzy Gillespie, Charli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rd” Park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ol Jazz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cal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les Davis, Stan Get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zz of the 60s/Outstanding Perfor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9880" y="25909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ree Jazz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y whatever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nette Cole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efully worked 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rbie Hanco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Jazz in the Fu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809880" y="25909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ime will tell what direction jazz will go next.  We will have to wait and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and When Did Jazz Beg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9880" y="25909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zz began in the early 1900s in New Orleans, Louisiana.  It took place mostly in the African-American commu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Various Types of Jaz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9880" y="25909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s, Ragtime, Dixieland, Chicago Jazz, Swing, Big Band, Bebop, Cool Jazz, Free Jazz, and 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ome Typical Jazz Instrum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9880" y="2590560"/>
            <a:ext cx="47246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umpets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omb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ia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ri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Ragtime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standing Perfo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9880" y="25909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around 18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ed on the pi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opated mel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m-chuck left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Joplin-King of 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Dixieland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standing Perfo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9880" y="2590560"/>
            <a:ext cx="47246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gan around 19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eral mus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gan in New Orle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rns and rhythm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e “King” Oli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Chicago Jazz/Outstanding Perfo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809880" y="25909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yville closed d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icians moved upri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oists improvi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instruments ad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uis Armstrong-Satchm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Swing/Outstanding Perfor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9880" y="25909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ic for dan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more instru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le or female voca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nny Goodman-black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whites-King of Swing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Band Characteristics/Perfor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9880" y="25909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ld War 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vel restri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ic was an esca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g Bands still pop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enn Miller, Duk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lington, Count Bas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05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23:11:49Z</dcterms:created>
  <dc:creator>Greenville Schools</dc:creator>
  <dc:description/>
  <dc:language>en-US</dc:language>
  <cp:lastModifiedBy>Preferred Customer</cp:lastModifiedBy>
  <dcterms:modified xsi:type="dcterms:W3CDTF">2008-03-01T18:32:45Z</dcterms:modified>
  <cp:revision>7</cp:revision>
  <dc:subject/>
  <dc:title>Slide 1</dc:title>
</cp:coreProperties>
</file>